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8957-5F74-45BF-AEF0-44E345F3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75C-F4B9-4C64-99E8-1D90F4B8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026EA-8037-4A10-AB7C-8F5E2948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CFF24-7467-4F59-9043-471EEFDE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27ED9-DA90-4493-9D56-46DD6B55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12701-A679-4E51-B5FD-884E1A0B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9ED2E-D1C8-4681-B348-0932D380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B8068-F541-4F0A-B3A9-A0FDCC58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5A56A-8E46-4295-AF3B-33ED00BF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4543B-314A-412E-9DAD-18AF1B3D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78524-4AA1-48C1-BFF0-FECE2550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19647-67C9-4604-83A2-08B00387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87BF-B8D5-45F3-A616-978C4338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3B73B-B333-4659-8B86-145F0F5F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0B475-D890-4BC1-9557-969623C8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54D10-666E-4491-9AB9-3BE8514D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7C22F-698B-4C50-BF7F-D3DC2A5E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35107-1C15-48CD-BE4E-E7A1A38B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46B81-479B-47AC-854F-F7E09A22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6D9E9-4A8E-4840-A212-362C9729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1D44C-A0FD-4619-A478-1F3FBC35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E955C-8E7E-4326-8E76-2B466145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B795F-9EDE-4DCA-96EB-4CE1BD72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F5F-15EB-4200-9F5C-53A2DA43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B54A5-0259-4127-BD0A-E6061DAF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143CD-0D93-49EF-B15E-C52A66CA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4E466-9909-4DE0-9EA3-859CD8C1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852D0-872E-4075-A3CF-915DB82D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F1999-7D99-4DF7-9A30-F88E96F6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25B26-609B-4A14-8A33-6C229E33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771AD-14F1-4CE6-AEEC-4EEA8643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12B0F-9BB3-44D1-A75A-D6AF2703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AB81D-A4AF-4FBC-A201-9D863D82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7973F-8E90-4249-8D39-11041F17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EBA3-BE9D-4801-9332-ADEEC939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55E91-B6D0-493B-94AE-CC2E8E6B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05E3B-5B51-4C48-8DBD-AD729B63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18467-97A2-45D7-9934-2812B6F8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E70A9-FFA8-4317-A2FA-07DA88C9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9ED34-0C3F-450E-96F2-155763A0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A8B40-6647-4DB4-9814-BBF0759C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5A463-D274-4F8F-90BC-B5F9A207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4C7CE-F357-40F1-AECC-9C8352B1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532E8-89A7-4682-BA94-988A881F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5585F-D59B-4600-A4DD-5E190E54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8E3D-A560-427E-9524-77EEFA94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DBF34-5E9F-463B-A75C-3BE2A5B7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5CBD6-FE31-4D79-9915-7FC09761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F072B-9E88-443C-A8C8-44A28B62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EE097-EE58-413A-9E97-09E2D2CC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EFF8D-E3C4-47D5-9F90-FD53175C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6660B-600F-4D35-ADFC-8A525860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74CC4-26CD-48EC-84DA-13F81587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91389B-BACD-41DB-A902-DD44797C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917D5-BD8B-44AA-BDED-27330217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0D640-77CA-4314-B7B6-672BFF0D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E7A3-0A8F-41F6-BA34-21A74C39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E148A-ACA4-408F-ABBE-410AFEF9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D265E-CA89-48E7-B592-CF9FB979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80817-CE3F-4A13-869B-6355D30C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1A16A-8D46-480A-AEA2-E757248B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12B1F9-CA97-4740-8419-5241FF2E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33015-2997-4B34-A5BA-2C9E2A29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C86FB-95C9-46A9-9F3B-5FE00877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D9BE5D-78AC-422A-A675-7E16B078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F2427-B2CB-425C-8237-99B0976F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16B296-B18E-4016-8B2F-8B2001E3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B11D-46CD-4CDE-B481-E2B26BEB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D240F5-4350-4BA9-B70B-93EFB1FE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C6D1A2-AE22-443D-807F-0D0E27CE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43CDFA-F0B1-46BA-8C6F-A8F20E88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21E6F4-4CF9-4690-93B2-879357E6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B87565-09F1-4A70-B937-246E3232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541E1A-0C92-4D06-AB4D-7BD3CCE8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29D28-A2C7-4DA6-9E81-16D00485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430FEC-D50D-4EAF-B313-6BF45AD4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B1C426-E726-4DF4-B152-5B77FF5C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66D6-8378-4470-BB1F-89D6B0B5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0E9A-F4DC-4CA0-9285-0C9FF627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E2DA-63D5-476F-B88F-B36CEBE4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25E-E803-461D-9BAF-23BB3D13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880C-2E75-4BCB-B3D4-B83D542E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1C59-DA5D-4294-A9AE-D0E74DA4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6530-0C84-4328-830B-820F9E65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03B6-A0CE-4F14-8B5D-5B054273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A6C5-0BAE-48B6-BB81-05F80A78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E422B-4CC6-44B7-957E-257A699F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2D448-0E8A-46AC-A18F-BD6162B4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E7309-FE69-46B5-9B44-FC9E5597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9FD82-DB05-4954-8C31-13A4DB8B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4D774-8110-428B-9C97-9C142775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3C56-0E4D-4844-8425-83C67982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EC633-0064-4283-AD65-FADAE1B4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48677-DF68-4F75-9376-D54DF136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14F5A-8200-4910-A75D-26AA26EB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A94EC-83BC-4B21-9373-D1BB0E90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2F4C7-AF22-40B8-808E-5539F3DD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991B3-2D31-412B-BC66-7C958000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08B03-8469-448C-B4FC-3060882B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43F4E-8326-44CA-BB8E-7EEF3AE6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7DD9A-EF62-473B-A26F-2AFF1B00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EB4B1-6270-4CAB-B2B2-0895D82A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0D4-DA18-49DE-AB2F-7CD16095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4B27D-913C-4674-B472-9B00C6C2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86FDD-A44E-4342-AC1D-6651CDEA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4B6D0-581F-4536-A63D-90EF4BD6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296C1-B79B-4FE7-ABEC-5A51AEC8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22E96-8C92-4CAC-B731-2C566ABE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8ECCD-C33B-4FA9-9041-13D456C2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91BE8-54CB-413E-8B13-A8E3EB1B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122D7-0423-459C-9A87-E0634F95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DA418-EFDA-4BAF-806B-1EAFE72F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27102-5CCD-4513-AF86-891F018C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127-B4E5-41E7-A4D6-52DCE03A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92002-9649-4C7E-8AEE-84F6BEBC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75A27-165F-47D9-BA8A-F3FA9124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44113-63B3-4E8F-A20B-E14C3107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2EF1B-8E81-42EC-91CE-BF42A2B7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51E13-74E9-444C-8EB6-12AE8029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D53BC-0DC9-428A-8E03-8037AF5B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D9170-523A-4C4A-B13F-377704C0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77127-DE7C-4B4C-914F-41BCACF1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02277-DC76-459D-8418-688D93CF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85B39-6D75-4056-944B-BB38D8D6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A31-9DF2-45CE-BEB3-3973402A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51EC8-A69F-4E48-B050-1816F35C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4D3F0-449B-4804-8565-4948D6E1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B39C5-DF02-4FAF-97CE-1AAE984E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06553-E41C-4B7A-8AF1-6583923C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2596A-30F9-4599-B1E3-13B4736E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5EB76-7254-4E79-9914-AB737807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53FB3-D6D9-4600-A1BB-2260F3EA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7A81E-96C4-433B-9C15-61054B3D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2A687-28D4-4D0C-8DD4-7C023D75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626DE-E84C-46D5-9444-87C0017B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0A3-88A2-42C6-B5C8-D1FAE1DE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64BB8-03A4-4A4C-8D3C-9C800477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F6D15-8CB0-4184-9709-270AE14F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84AFE-F1E4-4376-8DC4-C24A2AC9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4CA63-9922-4ECC-BA68-0132D497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BA1EB-CF55-498A-949F-757E9F1B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45E0A-33B7-4083-8D67-60D62064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81A4A-6CBF-45F0-A3EA-B443F884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8D21D-B396-4C61-A101-FC1D5EC6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0A219-6169-45D0-BBCE-6722D6AB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A03CC-8983-48AA-9943-7C449953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07A-8340-4FA4-AABC-E15CF94F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368AA-7773-4793-8F53-C6B519BD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7E7D2-19E7-4305-81DA-FC4B1830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48119-3243-49B7-9754-80FB112E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65B35-2224-4B98-BCB3-14A91175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75400-0B78-4A43-8701-5DC0DB01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1FA41-5F9C-486D-A7B9-5BC5C7D0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36A41-C1FE-4403-AC1F-5EDAEF87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1586D-B730-43B9-B301-7A2F1E8A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DC832-876C-4A92-9585-B03B5CF5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7D159-DBA8-4B06-9CEF-E2AE9081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F026-54B1-46A2-8240-A8A97ACB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F08AA-91C6-49DA-A48D-23DAF20D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6947B-4544-4D93-B74E-3D08BD48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3704D-CCC3-4337-A212-DAB63491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6B1B5-6BD4-4728-B735-595BBEA1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EFC79-EC37-4FEE-8230-77F44B54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169C4-497A-462D-AD45-E494FAC1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1AA09-6CC3-4E16-99EC-D34F9006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BDB3F-F4F3-405D-869E-9C683CF1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CD3E8-7CBE-46E6-A029-B81B821B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DCBC6-C97E-43FF-B515-1D227BB0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176A-8E0C-4FCC-B280-D05DCD713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F535-8B34-4406-9580-F38CD4C7C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37C3-458D-4261-9085-3D2BE5564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E386-CF69-4640-A5F8-31431ABB5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39F5-8E70-4FFE-9B0F-985BAB668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BEC4-495F-44EF-A331-C621A5D93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A616-9E5E-4E42-8E5C-B90916CEC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D689-70A2-4246-924A-4F80593C4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14D0-965C-495D-BECE-94B94F2FC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1577-DE26-42AC-8866-9879F9D43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7315-BA6E-4758-8517-C105BF7E4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EB5A-4746-4E12-B555-AE95576AA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46E1-8C07-4617-81CF-77B276393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D947-5737-45F9-96E9-8FCDCEE9D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5"/>
          <p:cNvSpPr/>
          <p:nvPr/>
        </p:nvSpPr>
        <p:spPr>
          <a:xfrm>
            <a:off x="0" y="83808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0000"/>
                </a:solidFill>
                <a:latin typeface="Arial"/>
              </a:rPr>
              <a:t>Propósito 42b: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Cómo repasamos para el </a:t>
            </a: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Arial"/>
              </a:rPr>
              <a:t>Quiz 1: Capitulo 5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b050"/>
                </a:solidFill>
                <a:latin typeface="Arial"/>
              </a:rPr>
              <a:t>L.O: To review soccer vocabul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omplete with any appropriate vocabulary wor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uando juegan (al) fútbol, los jugadores no pueden tocar el balón con _____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Para marcar un tanto el balón tiene que entrar en la _______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uando empieza el segundo ___________, los jugadores vuelven al tant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Juegan (al) futbol en el _______ de futbo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El jugador ________ un tanto cuando ________ un go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Si el tanto no queda ___________, un equipo gana el partido y el otro equipo ____________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0" y="-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 llamo____________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    Clase 701</a:t>
            </a:r>
            <a:br>
              <a:rPr sz="3200"/>
            </a:b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a fecha es el primero de febrero del 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TOMAR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Arial"/>
              </a:rPr>
              <a:t>Quiz 1: Cap.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3:46:55Z</dcterms:created>
  <dc:creator>Helen Zumaeta</dc:creator>
  <dc:description/>
  <dc:language>en-US</dc:language>
  <cp:lastModifiedBy>Helen Zumaeta</cp:lastModifiedBy>
  <cp:lastPrinted>2016-02-01T17:05:15Z</cp:lastPrinted>
  <dcterms:modified xsi:type="dcterms:W3CDTF">2016-02-02T01:07:12Z</dcterms:modified>
  <cp:revision>32</cp:revision>
  <dc:subject/>
  <dc:title>Me llamo____________  Clase 7 IL La fecha es el 4 de noviembre del 2010</dc:title>
</cp:coreProperties>
</file>